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4F0651D-516B-4097-9CF5-8CF0E858E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2D1-2023-4E3C-B13E-05A54EB8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CFB-57D9-466B-819E-1ECC6E02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959-3B8A-4363-A7CF-F691ADD0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FF74-7AA4-4708-81F6-D7AD4B9F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E386-31A9-4DDE-89DF-4800612C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AA71-FEE9-4698-8C95-1B15E804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D634-73A1-488C-A234-CC2D25E0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5912-4536-47D0-82B4-16F5DF52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79E0-562C-45E0-933A-B99D86B1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BBE7-2C23-472B-A215-9378B307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E1A2-2CA3-424A-BFBA-42AA9F8E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EAE-205B-4323-B572-CB9752CD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8904-6BCE-4B08-9BCF-42F56748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0F96-8FA6-4C32-BB3D-6EF52E5A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17CD-665E-4BD9-BC82-48E96816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23B7-6C8F-4523-8626-1E6CDE48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3576-A163-4588-B73F-CCDB9CA3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BE9B-CECA-4DCE-BEB5-B8C4A829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CE4-3E01-4E5B-A795-A004087E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485-5C19-4CFB-9A75-B57B477F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274-BEAE-4D8F-A626-72F65ACD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339-FE9C-4A62-826D-BDC406F3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7870-244F-453B-A0D6-B40FF1DE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E5C-1DD0-4197-8C3B-209ECDEB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7FA3-B4A5-479D-9BFD-AB8DE4CC0BBD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1EDC-D26A-4EF2-9965-9528C85BC0F9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58B1-BCD3-4509-BDB9-5D5E9060BE18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00296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Quadratic and Trigonometric Relations</a:t>
            </a:r>
            <a:br>
              <a:rPr sz="4400"/>
            </a:b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Session 1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2444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Donna Del 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David Zi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1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1905120"/>
            <a:ext cx="8497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Algebraic reasoning can help you to describe and analyze generalized quadratic relations and change using words and symbols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2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representations of quadratic relations highlight different characteristics and serve different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3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920" y="1905120"/>
            <a:ext cx="8497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Comparing quadratic relations with other relations (e.g. linear) provides insight into the defining characteristics of a quadratic re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4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Limited information about a quadratic relation can sometimes, but not always, reveal other information about that re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1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Trigonometric relations can help you to describe and analyze periodic relationships and change using words and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2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trigonometric function can be represented in multiple ways (numerically, graphically, geometrically and algebraically) and each representation highlights different characteristics or behaviours, and can serve different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3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When comparing trigonometric relations to other relations, the  periodic nature becomes a defining characteristi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4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ed information about a periodic relationship can sometimes, but not always, reveal other information about that relation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20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Match Me Up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match each question to the big idea that it is most likely to elic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20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Match Me Up!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Share:  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questions were easiest / most difficult to map?  Why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common elements are evident in the questions that help students develop understanding of the big ideas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us your name and Boar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one thing that you hope to get out of this breakout session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one success that you have had teaching rel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d469b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a Big Idea and write your own question (for Quadratic or Trig relations) that gets at that Big Id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member to label the Big Idea on your stic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name on the ba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it on your way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the Big Ideas of Quadratic and Trigonometric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connections between the overall expectations and the big ideas of Quadratic and Trigonometric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ing sense of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31768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ur big ideas for quadratic relations and four big ideas for trigonometric relations are posted, one on each side of each corner of the roo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73664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your table, you will find two envelo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envelope contains overall expectations from various grade 10, 11 and 12 courses related to quadratic relations OR trigonometric relations.  Select a partner. Choose an envelope and then select one expectation (so each pair will have two expectations) from that enve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73664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your partner, walk around the room and discuss the Big Ideas through the lens of your expec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your expectation, go to the corner that it best connects to. (You and your partner may need to separat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90512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your corner, discuss your rationale for matching the overall expectation to that big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may change your corner if your discussion made you rethink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you are ready, post your overall expectation under the big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90512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rner Sh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How are the expectations for quadratic and trigonometric relations the same for that Big Idea?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llery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Turn and T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905120"/>
            <a:ext cx="8399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rner Share:  Find three new people to work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080" indent="-271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How easy / difficult was it to assign an overall expectation to a big idea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Are the overall expectations sufficient to get at the big ideas?  Why or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What role do students’ prior experiences play in the development of their understanding of the big ide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What challenges might you as a teacher face when providing students with learning opportunities that focus on developing understanding of the big idea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Donna</cp:lastModifiedBy>
  <dcterms:modified xsi:type="dcterms:W3CDTF">2009-08-24T02:00:47Z</dcterms:modified>
  <cp:revision>122</cp:revision>
  <dc:subject/>
  <dc:title>Math GAINS 2008-09</dc:title>
</cp:coreProperties>
</file>